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E36C-9469-4158-9D9B-24464A96F5E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C073-1FB9-4311-A899-DFD1D5C14FB4}"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D764-0CDC-4D94-BCAB-7142ADBDB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D9B4-36E3-438F-98E8-9C7F6791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DAB79-B76B-4C21-B59C-9DA700839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01EE-26D3-4A8F-83D0-F8CED73A7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380B8-30F7-4A44-BF18-77A902792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9ECC1-7C1E-425A-9F16-0EE3C34E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55A1-AEDA-44A0-B79A-685B072D1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C1C4-F3B4-4897-927E-40ECBB6FA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F7DE6-B9CE-400C-B688-670021C0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AC7B-ABFD-47A4-9F2B-25830712C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C4BB-9EF7-488B-BD11-ADB9D54A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46C9-1AE2-4D2F-953A-9DD26678A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F4D3-C9EE-42A2-9B5E-940D331663C4}"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ing copp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n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ing solar collectors to heat your ho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057400"/>
            <a:ext cx="79246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ime period where overhunting of large mammals occur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unter-gather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riod where most of today’s environmental problems beg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dustrial Revol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ntry whose residents leave the largest ecological footpr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cribes the conflict between individuals and socie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agedy of the Comm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Characterized by the indefinite existence of the human population in a healthy &amp; prosperous condition</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stainabl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system components such as soil &amp; tempera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biotic facto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system components such as insects &amp; leav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iotic facto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mbers of the same species living in the same place at the same tim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opul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Made up of all the populations of fish, insects &amp; other living things in a pond</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m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place where an organism lives &amp; that has the resources it need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bita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amples include newspapers &amp; human sewa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iodegradable polluta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mount of land &amp; ocean area needed to support 1 per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logical footpr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troduction of harmful levels of chemicals or wastes into the environment</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nvironment</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mp; Societ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 1 Misc.</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 4 Misc.</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systems</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Using</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Resource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oll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cher on Boy Meets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r. Feen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and variety of species in an are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iodivers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vacant lot can be considered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birds in a forest do not belong to the same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peci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fferent dog breeds exist because of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lling a car with gasolin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tificial selec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2438280"/>
            <a:ext cx="78487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naturally selected individuals must do for evolution to occur</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produ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s promoted the evolution of insects that are resistant to insecticid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ying to control pests with chemical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types of values that may be considered when building a da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ic, environmental, recreational, ethical, et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n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urning coal in a power pl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nrenew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uilding wooden furnit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Jason</cp:lastModifiedBy>
  <dcterms:modified xsi:type="dcterms:W3CDTF">2009-10-21T00:01:20Z</dcterms:modified>
  <cp:revision>32</cp:revision>
  <dc:subject/>
  <dc:title>No Slide Title</dc:title>
</cp:coreProperties>
</file>